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6261-D658-4B82-9197-C3EFF640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92EB-05D9-41EA-B9F4-F0289874D9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51BD-2612-4D62-8C5C-D9CF65FC6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CF63-5B57-4CE0-9B8E-1E9FD04A29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AD4A-088C-443C-9800-564DDBA22F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4DBF-1212-4B4F-9375-2015591EF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BCEE-FB04-4C68-9E00-1AF22FAF8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6B98-6A4A-463E-8361-81516DB5D2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989-91BD-4975-A545-DDDFE90C3D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75D-66B6-427B-B342-33E32B3A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9BD-7C52-4997-AFAE-88F7E9FD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6F7-1E42-49E8-8C97-C14D5969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9E8-BA00-46B5-9C1A-62FBB8D3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0395-8A12-4D3E-84D9-913273FC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67DB-CC50-4E38-A10A-1047C2EA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7843-60BF-45EA-8AC1-46E6A870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2574-0369-4DBC-8EC2-8C234E1C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9C9B-91E5-457C-ACAC-3B42C44E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D60E-7047-45DE-A44A-76FEFE33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637A-0582-44BB-9E90-8FF8E141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919-74D9-402F-ADEA-5F718D55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725C-7776-4063-9A8A-2B1F770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0152-3AD3-41F1-BDF9-07D573B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7DB0-623F-49F5-9DE5-C25DD67E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7A9A-E5AA-423A-889E-C3895A06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D0E8-BECB-47D2-BC20-CA71B13A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954-D251-4955-8AE8-5BD6563D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3A6-8B3D-4171-A4B1-14A0C349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BE2-A6BA-4EE9-B23D-6613506C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0B2-BC59-4667-A544-330415E8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4F3-C631-4383-9818-06200391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50D-4E56-417F-AA0F-A815A460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0DA-0664-4199-A7AE-4B7FFAB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7F13-ADC1-4FD9-8E76-A63BD94B278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>
              <a:gd name="textAreaLeft" fmla="*/ 0 w 150840"/>
              <a:gd name="textAreaRight" fmla="*/ 151200 w 150840"/>
              <a:gd name="textAreaTop" fmla="*/ 0 h 4845240"/>
              <a:gd name="textAreaBottom" fmla="*/ 4845600 h 4845240"/>
            </a:gdLst>
            <a:ahLst/>
            <a:rect l="textAreaLeft" t="textAreaTop" r="textAreaRight" b="textAreaBottom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A564-5B97-43AA-AA68-E122682539A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　スポー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サツカ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すも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　　　　　　やきゆう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People fill the Baseball Stadium’s in Japan the by Thous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y come in team colours and aren’t afraid to express their feeling about the g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927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76760" y="106848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Fans and their Love for the game.</a:t>
            </a: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247" name="Picture 7" descr="tokyodome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umo Wrest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 a sumo bout, a wrestler attempts to force his opponent out of a circular 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 Sport originated in Japan where the sport is practiced profession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re are six grand tournaments ann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 sumo wrestler is also known as a Rikish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Wrestlers have training every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Beginner wrestlers get up earlier than m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&lt;--- Daily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250px-Sumoworkout"/>
          <p:cNvPicPr/>
          <p:nvPr/>
        </p:nvPicPr>
        <p:blipFill>
          <a:blip r:embed="rId1"/>
          <a:stretch/>
        </p:blipFill>
        <p:spPr>
          <a:xfrm>
            <a:off x="685800" y="2484360"/>
            <a:ext cx="39243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are required to live in sumo training stable known as Hehy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All Their daily activities such as eating and clothing are dictated by strict tra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throw salt onto the ring to purify it, before figh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merican Typewriter"/>
              </a:rPr>
              <a:t>The 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4" descr="JapanSumoMatch.jpg"/>
          <p:cNvPicPr/>
          <p:nvPr/>
        </p:nvPicPr>
        <p:blipFill>
          <a:blip r:embed="rId1"/>
          <a:stretch/>
        </p:blipFill>
        <p:spPr>
          <a:xfrm>
            <a:off x="4143240" y="1674720"/>
            <a:ext cx="4429440" cy="43974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The matches are in a ring 4.55 m in diameter and 16.26 square 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Wrestlers enter the stadium in seperate wings of the stadium to make sure they dont see there opponent  before the mat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efore the match wrestlers swat facing each other to show that they don’t have any wepon’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rth American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 rot="16200000">
            <a:off x="2139120" y="3239280"/>
            <a:ext cx="6324480" cy="55483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ost North Americans consider sumo wrestling as jo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me people realize the importance of sumo wrestling  to Japan and respect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サツカ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occer in Japan started in 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chools and Universities in the m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19th century. Soccer is a 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popular sport in the country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apan, many people start at an ear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ge.The Japanese people are b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pporters of the J.Leag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JONakamura"/>
          <p:cNvPicPr/>
          <p:nvPr/>
        </p:nvPicPr>
        <p:blipFill>
          <a:blip r:embed="rId1"/>
          <a:stretch/>
        </p:blipFill>
        <p:spPr>
          <a:xfrm>
            <a:off x="5424480" y="1981080"/>
            <a:ext cx="2367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J.Leagu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most popular soccer league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2 major leagues, 18 teams in ea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J. League board had to goals for the fu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have 100 clubs in the league by their 100th sea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separate teams and produce another Div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Foreigne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Gary Linek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(England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Nagoya Gram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Dunga (Coach of Brazi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ubilo Iw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Zico (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Brazil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Leonardo (Coach of AC Mil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images"/>
          <p:cNvPicPr/>
          <p:nvPr/>
        </p:nvPicPr>
        <p:blipFill>
          <a:blip r:embed="rId1"/>
          <a:stretch/>
        </p:blipFill>
        <p:spPr>
          <a:xfrm>
            <a:off x="5743440" y="4071960"/>
            <a:ext cx="1756080" cy="1596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images-1"/>
          <p:cNvPicPr/>
          <p:nvPr/>
        </p:nvPicPr>
        <p:blipFill>
          <a:blip r:embed="rId2"/>
          <a:stretch/>
        </p:blipFill>
        <p:spPr>
          <a:xfrm>
            <a:off x="5591160" y="1981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Compet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ost Championships: Kashima Antler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Longest Reigning Champions: Kashima Antlers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J.League Cup: Tamagawa Cla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Emperor’s Cup: Gamba Os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images"/>
          <p:cNvPicPr/>
          <p:nvPr/>
        </p:nvPicPr>
        <p:blipFill>
          <a:blip r:embed="rId1"/>
          <a:stretch/>
        </p:blipFill>
        <p:spPr>
          <a:xfrm>
            <a:off x="4794120" y="1981080"/>
            <a:ext cx="3632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やきゅ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  <a:ea typeface="ヒラギノ角ゴ Pro W3"/>
              </a:rPr>
              <a:t>Baseball was introduced to japan in 1872,B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y horace wilson, who taught at the Kaisei School in Tok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Hiroshi Hiraoka, who was in United States studying engineering, introduced the game to his co-workers at Japan national railways in 1878.He created the first baseball t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Now baseball is one of the most popular sports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high school teams have 2 annual tournaments nation wide.accumulating at a final match at Hanshin Koshien Stadium in Nishinomiy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t’s a common site to see the losing teams players coming off the field in tears after being elimntaed  by  the tournament by a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N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92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Ichiro is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rguably the best baseball player Japan has produc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chiro holds 9 Japanese baseball records including: Seven-time PL batting champ (‘94-’00) hits in a season (‘94) Got on base in a record 69 consecutive games (‘94) 216 consecutive at-bats without a strikeout (‘9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first started to play when he was 8.He took part twice in the National High School Baseball Tournament at Koshein Sta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6" descr="suzuki_ichiro"/>
          <p:cNvPicPr/>
          <p:nvPr/>
        </p:nvPicPr>
        <p:blipFill>
          <a:blip r:embed="rId1"/>
          <a:stretch/>
        </p:blipFill>
        <p:spPr>
          <a:xfrm>
            <a:off x="731880" y="1981080"/>
            <a:ext cx="3602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Nippon Professional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level of Baseball in Jap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s call it Puro Yaky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traced back to Tokyo Baseball 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currently 12 teams in the NP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Rival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Saitama Seibu Lions and the Chiba Lotte Mar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n the Centrel League there is fierce competitions between The Yokohama Baystars and The Yomiuri Gia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images-1"/>
          <p:cNvPicPr/>
          <p:nvPr/>
        </p:nvPicPr>
        <p:blipFill>
          <a:blip r:embed="rId1"/>
          <a:stretch/>
        </p:blipFill>
        <p:spPr>
          <a:xfrm>
            <a:off x="4952880" y="2286000"/>
            <a:ext cx="37720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20:09Z</dcterms:created>
  <dc:creator>SD#34</dc:creator>
  <dc:description/>
  <dc:language>en-US</dc:language>
  <cp:lastModifiedBy>dilraj brar</cp:lastModifiedBy>
  <dcterms:modified xsi:type="dcterms:W3CDTF">2009-12-15T04:58:31Z</dcterms:modified>
  <cp:revision>26</cp:revision>
  <dc:subject/>
  <dc:title>スポーツ</dc:title>
</cp:coreProperties>
</file>